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13.jpeg" ContentType="image/jpeg"/>
  <Override PartName="/ppt/media/image18.gif" ContentType="image/gif"/>
  <Override PartName="/ppt/media/image20.gif" ContentType="image/gif"/>
  <Override PartName="/ppt/media/image8.jpeg" ContentType="image/jpeg"/>
  <Override PartName="/ppt/media/image2.gif" ContentType="image/gif"/>
  <Override PartName="/ppt/media/image25.gif" ContentType="image/gif"/>
  <Override PartName="/ppt/media/image7.gif" ContentType="image/gif"/>
  <Override PartName="/ppt/media/image5.jpeg" ContentType="image/jpeg"/>
  <Override PartName="/ppt/media/image11.gif" ContentType="image/gif"/>
  <Override PartName="/ppt/media/image6.gif" ContentType="image/gif"/>
  <Override PartName="/ppt/media/image4.jpeg" ContentType="image/jpeg"/>
  <Override PartName="/ppt/media/image22.gif" ContentType="image/gif"/>
  <Override PartName="/ppt/media/image27.wmf" ContentType="image/x-wmf"/>
  <Override PartName="/ppt/media/image26.wmf" ContentType="image/x-wmf"/>
  <Override PartName="/ppt/media/image23.jpeg" ContentType="image/jpeg"/>
  <Override PartName="/ppt/media/image3.gif" ContentType="image/gif"/>
  <Override PartName="/ppt/media/image21.gif" ContentType="image/gif"/>
  <Override PartName="/ppt/media/image19.gif" ContentType="image/gif"/>
  <Override PartName="/ppt/media/image24.gif" ContentType="image/gif"/>
  <Override PartName="/ppt/media/image1.gif" ContentType="image/gif"/>
  <Override PartName="/ppt/media/image17.gif" ContentType="image/gif"/>
  <Override PartName="/ppt/media/image16.gif" ContentType="image/gif"/>
  <Override PartName="/ppt/media/image14.jpeg" ContentType="image/jpeg"/>
  <Override PartName="/ppt/media/image28.jpeg" ContentType="image/jpeg"/>
  <Override PartName="/ppt/media/image15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A845-4A47-4EDE-BCCE-4E5784B6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0FF4-4727-4C50-9872-9EA364A1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2D32-67E1-42F1-B37D-6F2D0227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C89F-FF7B-4EA4-BE16-FA9652E0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BD52-2467-4FF5-B71B-01C0C347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9ACC-3A46-4E74-800F-8087883B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2809-AF39-4760-ABBF-18EFF4A2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64E3-967B-4D80-A37B-133B964B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0CD1-3026-4FD4-918A-6CC9694D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D774-C1A4-4AA5-8466-702B502D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4A91-069D-4A33-8B85-D3310CEB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EF8C-39E4-4CF4-938E-2823CD89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D658-3A11-4BDC-93E3-FBA63C5C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D3F1-BDB8-4A49-A714-06DB94B3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E674-1342-44F5-8FB9-474803AD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2BDF-8D28-4C5F-8D3A-5C38B57E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28F3-586E-4B98-8CBC-7C9CDBBA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942C-31D6-43A5-B75B-0729BA18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9B69-4257-4D5C-88A3-610078D2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7AAB-B782-4CAC-8300-2EE6592B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9A4F-06FE-42F8-AAF2-229C574F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48D8-71B7-47E4-AC9C-F574F16E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511E-AA81-4647-86EE-216D8056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640-D113-4E91-B85A-5866D674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DA6C-8816-4ACB-BE18-70A1AE67B53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DED2-E9B2-4C72-9EF1-3886336AC1B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Меры и их измерения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39280" y="4005360"/>
            <a:ext cx="3024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Плиско Анастас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ученицы 6 «а» клас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4311360" y="1051920"/>
            <a:ext cx="469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униципальное общеобразова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чреждение гимназия «Гармони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19200" y="4076280"/>
            <a:ext cx="351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аучный 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Гурьянова Наталья Иван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учитель математики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94720" y="6216120"/>
            <a:ext cx="13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трад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000" y="1483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еры веса и объем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708360" y="3500280"/>
            <a:ext cx="2376360" cy="2376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333360"/>
            <a:ext cx="769644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 развитием обмена продуктов в обществе возникла необходимость в измерениях количества разных веществ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1020960" cy="1582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381480" cy="30668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484360" y="3933720"/>
            <a:ext cx="2138400" cy="2565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5640" y="3213000"/>
            <a:ext cx="7696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ля взвешивания тел на рычажных весах нужно иметь меры в виде образцовых гирь, или, как их называют, эталонов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5761080" cy="2362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Измерение времени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012000" y="3500280"/>
            <a:ext cx="1606320" cy="2376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780000" y="3357720"/>
            <a:ext cx="925200" cy="1368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1265400" cy="1871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475920"/>
            <a:ext cx="7696080" cy="18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глубокой древности люди заметили, что многие природные процессы повторяются регулярно…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556000" y="25653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71640" y="3573000"/>
            <a:ext cx="7696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ля того, чтобы измерять маленькие промежутки времени, египетские учёные изобрели часы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1081080" cy="14288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492360" y="2349360"/>
            <a:ext cx="754200" cy="997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6300720" y="907920"/>
            <a:ext cx="1416240" cy="1871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4959360" y="1474920"/>
            <a:ext cx="552600" cy="730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280" y="1844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Денежная единица измерения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796000" y="3716280"/>
            <a:ext cx="2160720" cy="12686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995640" y="5373720"/>
            <a:ext cx="1298520" cy="7621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203640" y="3860640"/>
            <a:ext cx="717480" cy="422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3708360" y="476280"/>
            <a:ext cx="1800360" cy="10587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539640" y="4076640"/>
            <a:ext cx="1657440" cy="974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66596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енежными единицами у многих народов  служили кусочки серебра или золота  определенного вес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516720" y="1268280"/>
            <a:ext cx="1355760" cy="51850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24000" y="3499560"/>
            <a:ext cx="59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лово ДЕНЬГА происходит от индусского названия серебряной монеты та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7696440" cy="31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лово РУБЛЬ происходит от глагола «рубить». XIV веке гривну стали рубить пополам, и серебряный слиток в половину гривны (= 204,76 г) получил название рубля или рублевой гривенк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732720" y="458136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427640" y="5157720"/>
            <a:ext cx="1152360" cy="1143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1979640" y="4365720"/>
            <a:ext cx="1152360" cy="1143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15640" y="1773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Первые единицы длины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843280" y="4365720"/>
            <a:ext cx="3814560" cy="17161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ля того чтобы предметы, окружающие нас, можно было сравнивать, оценивать, измерять, необходимы некоторые инструменты - специальные меры, т.е. единицы измерения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516720" y="494172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419640" y="5157720"/>
            <a:ext cx="865080" cy="865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5003640" y="5084640"/>
            <a:ext cx="505080" cy="505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4572000" y="58071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6372360" y="3319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 flipH="1">
            <a:off x="971640" y="4653000"/>
            <a:ext cx="720720" cy="647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473760"/>
            <a:ext cx="66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Эстонские моряки мерили расстояние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трубкам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Так называется у них путь, пройденный кораблём при нормальной скорости за время, пока курится набитая табаком труб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87640" y="4437000"/>
            <a:ext cx="55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Испании такой же мерой расстояния служила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сигар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а в Японии – 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лошадиный башма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067280" y="3068640"/>
            <a:ext cx="664920" cy="820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403280" y="3068640"/>
            <a:ext cx="665280" cy="820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6877080" y="3141720"/>
            <a:ext cx="665280" cy="8208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5508720" y="3141720"/>
            <a:ext cx="664920" cy="8208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2771640" y="3068640"/>
            <a:ext cx="665280" cy="820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3961080" cy="27730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979640" y="3792240"/>
            <a:ext cx="670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ажень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римерно равна расстоянию от подошвы до концов пальцев поднятой вверх руки. Поэтому, возможно, что это слово происходит от глагола «сягать» - достава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640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иля = 7 верстам (= 7,47 километра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ерста = 500 саженям (= 1,07 километра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ажень = 3 аршинам = 7 футам (= 2,13 метра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шин = 16 вершкам = 28 дюймам (= 71,12 сантиметр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ут = 12 дюймам (= 30,48 сантиметра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юйм = 10 линиям (2,54 сантиметра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иния = 10 точкам (2,54 миллиметра).[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6, с. 35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76960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гда говорили  о росте человека, то указывали лишь, на сколько вершков он превышает 2 аршин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2124000" y="5300640"/>
            <a:ext cx="628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этому слова «человек 12 вершков роста» означали,  что его рост равен 2 аршинам 12 вершкам, то есть 196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042920" y="3573360"/>
            <a:ext cx="6762960" cy="1254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000" y="1773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Таблицы роста учащихся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724360" y="3357720"/>
            <a:ext cx="2508480" cy="2806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547640" y="31680"/>
          <a:ext cx="7048800" cy="6826320"/>
        </p:xfrm>
        <a:graphic>
          <a:graphicData uri="http://schemas.openxmlformats.org/drawingml/2006/table">
            <a:tbl>
              <a:tblPr/>
              <a:tblGrid>
                <a:gridCol w="2148120"/>
                <a:gridCol w="752400"/>
                <a:gridCol w="1065240"/>
                <a:gridCol w="752400"/>
                <a:gridCol w="752400"/>
                <a:gridCol w="755640"/>
                <a:gridCol w="8226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ж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ш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ш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юй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ифина Анастас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7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6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хонкина Улья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5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4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ова Татья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6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берский Алекс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5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2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саров Ники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1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6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3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онина Елизаве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9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3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6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ьмурзин Арт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7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8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анова Ин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7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8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иль Арту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1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7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иченко Нас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4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8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8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аренко Ан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9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3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6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лов Александ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7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8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иско Анастас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6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ечаева Виктор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5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4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гачева Юл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7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8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даткина Я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6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енко Дарь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6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0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7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мов Михаи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8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2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1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мбровская Дарь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6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азанова Наталь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5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2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ентьева Екатери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3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6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9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пицын Дени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7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0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ыплякова Анастас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8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2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1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шнева Ан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8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2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1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"/>
          <p:cNvSpPr/>
          <p:nvPr/>
        </p:nvSpPr>
        <p:spPr>
          <a:xfrm>
            <a:off x="539640" y="476280"/>
            <a:ext cx="5763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1547640" y="0"/>
          <a:ext cx="7128000" cy="6846840"/>
        </p:xfrm>
        <a:graphic>
          <a:graphicData uri="http://schemas.openxmlformats.org/drawingml/2006/table">
            <a:tbl>
              <a:tblPr/>
              <a:tblGrid>
                <a:gridCol w="2129040"/>
                <a:gridCol w="747720"/>
                <a:gridCol w="839160"/>
                <a:gridCol w="963720"/>
                <a:gridCol w="816480"/>
                <a:gridCol w="815040"/>
                <a:gridCol w="81684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ж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ш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ш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юй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ифина Анастас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9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9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1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8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ахонкина Улья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9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9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1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8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ова Татья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2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берский Алекс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2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саров Ники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2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4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онина Елизаве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2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ьмурзин Арт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9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4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7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анова Ин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0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6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иль Арту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4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,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иченко Нас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3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6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аренко Ан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5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8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0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лов Александ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0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6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иско Анастас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7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ечаева Виктор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6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9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9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гачева Юл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9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4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7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даткина Я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9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4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7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денко Дарь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2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5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5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мов Михаи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5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8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,0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мбровская Дарь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9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9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1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8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разанова Наталь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6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9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9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ентьева Екатери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8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1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,9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пицын Дени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4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2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ыплякова Анастас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9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4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7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шнева Ан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4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,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539640" y="476280"/>
            <a:ext cx="5763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1077120" y="332280"/>
            <a:ext cx="74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ний рост учащихся 1 «а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195640" y="1197000"/>
          <a:ext cx="5257800" cy="546120"/>
        </p:xfrm>
        <a:graphic>
          <a:graphicData uri="http://schemas.openxmlformats.org/drawingml/2006/table">
            <a:tbl>
              <a:tblPr/>
              <a:tblGrid>
                <a:gridCol w="819360"/>
                <a:gridCol w="1160280"/>
                <a:gridCol w="819000"/>
                <a:gridCol w="817560"/>
                <a:gridCol w="822600"/>
                <a:gridCol w="819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ж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ш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ш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юй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4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8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3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8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"/>
          <p:cNvSpPr/>
          <p:nvPr/>
        </p:nvSpPr>
        <p:spPr>
          <a:xfrm>
            <a:off x="1186200" y="2203920"/>
            <a:ext cx="727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редний рост учащихся 5 «а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268360" y="2997360"/>
          <a:ext cx="5256000" cy="546120"/>
        </p:xfrm>
        <a:graphic>
          <a:graphicData uri="http://schemas.openxmlformats.org/drawingml/2006/table">
            <a:tbl>
              <a:tblPr/>
              <a:tblGrid>
                <a:gridCol w="817920"/>
                <a:gridCol w="1160640"/>
                <a:gridCol w="819720"/>
                <a:gridCol w="818280"/>
                <a:gridCol w="821520"/>
                <a:gridCol w="8179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ж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ш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ш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юй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,1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1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3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"/>
          <p:cNvSpPr/>
          <p:nvPr/>
        </p:nvSpPr>
        <p:spPr>
          <a:xfrm>
            <a:off x="169560" y="4220280"/>
            <a:ext cx="9228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чащиеся нашего класса за 4 года выросли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268360" y="5013360"/>
          <a:ext cx="5327640" cy="546120"/>
        </p:xfrm>
        <a:graphic>
          <a:graphicData uri="http://schemas.openxmlformats.org/drawingml/2006/table">
            <a:tbl>
              <a:tblPr/>
              <a:tblGrid>
                <a:gridCol w="830520"/>
                <a:gridCol w="1174680"/>
                <a:gridCol w="830520"/>
                <a:gridCol w="830880"/>
                <a:gridCol w="830520"/>
                <a:gridCol w="83052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ж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ш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ш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юй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2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1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4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"/>
          <p:cNvSpPr/>
          <p:nvPr/>
        </p:nvSpPr>
        <p:spPr>
          <a:xfrm>
            <a:off x="0" y="557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316720" cy="3641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6600" y="189000"/>
            <a:ext cx="9077400" cy="33382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rcRect l="0" t="33753" r="0" b="24743"/>
          <a:stretch/>
        </p:blipFill>
        <p:spPr>
          <a:xfrm>
            <a:off x="539640" y="3933720"/>
            <a:ext cx="8137800" cy="2533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9280" y="332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Цел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данной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зучить меры и их измер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7280" y="16992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Задач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2130120"/>
            <a:ext cx="867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638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етить на вопрос, зачем человеку нужны измер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638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зучить первые единицы длин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638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ссмотреть меры площа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638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зучить меры веса и объ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638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знакомиться с измерением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638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ссмотреть денежную единицу изме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63828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ыяснить, на сколько изменился средний рост класса за 4 год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87280" y="2349000"/>
            <a:ext cx="737712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Большое спасибо</a:t>
            </a:r>
            <a:br>
              <a:rPr sz="6000"/>
            </a:b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за внимание!</a:t>
            </a:r>
            <a:endParaRPr b="0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2276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Зачем человеку нужны измерения?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792000" cy="6858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27640" y="5373720"/>
            <a:ext cx="504720" cy="4366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 flipH="1">
            <a:off x="1332000" y="4292640"/>
            <a:ext cx="1079280" cy="933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3852720" y="1724040"/>
            <a:ext cx="358920" cy="311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5796000" y="907920"/>
            <a:ext cx="792000" cy="6876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 flipH="1">
            <a:off x="826560" y="620640"/>
            <a:ext cx="1297080" cy="1062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7696080" cy="16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змерения – одно из важнейших дел в современной жизни. Но не всегда было так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932360" y="342900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4281480" cy="4465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356000" y="2924280"/>
            <a:ext cx="4286520" cy="3019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2.77778E-006 -1.04046E-006 L -0.1632 -0.12578 E">
                                      <p:cBhvr>
                                        <p:cTn id="20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стоящие меры длины, веса или времени должны быть одинаковыми для всех, иначе будет неразбериха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500720" y="4724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516720" y="4581360"/>
            <a:ext cx="934920" cy="935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544760" y="4003560"/>
            <a:ext cx="650880" cy="647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2627280" y="5305320"/>
            <a:ext cx="1008000" cy="1003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2050920" y="692280"/>
            <a:ext cx="579600" cy="579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5651640" y="1268280"/>
            <a:ext cx="579240" cy="579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1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2" dur="1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3" dur="1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4920" y="1915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Меры площадей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88000" y="3860640"/>
            <a:ext cx="854280" cy="13669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211640" y="5445000"/>
            <a:ext cx="403200" cy="6447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2484360" y="4149720"/>
            <a:ext cx="538200" cy="8604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1547640" y="1197000"/>
            <a:ext cx="765360" cy="1224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4753080" y="1125360"/>
            <a:ext cx="403200" cy="6447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511200" y="3784680"/>
            <a:ext cx="317520" cy="507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769608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серьёз человеку понадобилось измерять площади только с появлением земледелия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3887640" cy="2712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500720" y="3860640"/>
            <a:ext cx="4427280" cy="2837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23:40:43Z</dcterms:created>
  <dc:creator>123</dc:creator>
  <dc:description/>
  <dc:language>en-US</dc:language>
  <cp:lastModifiedBy>123</cp:lastModifiedBy>
  <dcterms:modified xsi:type="dcterms:W3CDTF">2009-10-31T18:11:39Z</dcterms:modified>
  <cp:revision>16</cp:revision>
  <dc:subject/>
  <dc:title>Меры и их измерения </dc:title>
</cp:coreProperties>
</file>